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9D6-3489-4D0D-A5F4-97543C99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FEB-D568-4B51-AE2B-F7602618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8EB-DCFE-481D-8C65-C82FD57D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0C1-1233-4C58-9AE1-673B811B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0E4-EF7D-4618-B1BC-1403D598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993-BC8C-40BA-A481-07FA17EA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618-B902-48F8-9AF8-653D017F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F63-33FC-4B2F-971A-87A85D30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5B3-49F8-40D0-A4C3-8ECBFB7C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321-522D-4A22-B3ED-10CB62B0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C50-0F23-466C-8B06-7BD8CD3C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364-CAE1-4D45-928A-2AD1D919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2AAB-49DE-41F0-82D4-8BB45EA63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eginnings of Our Global Ag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urope, Africa, and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4: Encounters in East Asia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pgs. 99-1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uropean Contact with Ming China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g let Europeans trade, but only for  _________or 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rtuguese had a trading post at _____________ near Canton in present-day 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limited their visits to ___ area and ___ seaso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Contact with Ming China co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 miss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led by _________________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welcomed for their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had ___________success in converting the Chin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became important ___________ of ______________ for Europeans who knew little about Chi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chu Con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arly 1600s ______ dynasty decay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nchus pushed through __________ &amp; ruled in the _________, Manchu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- Manchu armies took control of ________ &amp; set up the _____ dyna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anded China’s ________ to create largest Chines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on support of Chinese b/c  adopted ____________ system of govern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ocal gov’t ruled by ___________, but __________ troops stationed throughout empire to ensure loyal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800"/>
            </a:br>
            <a:br>
              <a:rPr sz="4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nchu Con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t…</a:t>
            </a:r>
            <a:br>
              <a:rPr sz="2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Kangxi and _____________ expanded Chinese border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merican ________ helped to fuel a population boom in Chin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Qing maintained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ing policy and rejected an appeal from _________ for more tra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iplomat, _______________insulted the Chinese b/c he wouldn’t perform __________ in order to see the emper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: The “______Kingdom”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500s and 1600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ed contact from outsid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___________dynasty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ed the Confucian idea that merchants held low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response to invasions by the _____________ and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Korea isolated itself, excluding most 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ign Traders in Japan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first                                                                                                                                                     *Japanese welcomed __________    tr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 ___________,or warrior lords adopted European firearms &amp; helped the  _____________ family centralize power and keep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Christian missionaries ___________ at winning conve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ign Traders in Jap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ahoma"/>
              </a:rPr>
              <a:t>Afte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 seized the Philipp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Japan __________ European tr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nly allowed Dutch to trade in _______________ harbor once a ye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murdered Japanese __________ b/c     feared they owed allegiance to the _________ rather than the Tokuga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shut off contact with the ________  _______ for over _____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253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23:52:13Z</dcterms:created>
  <dc:creator>Lawrence Public Schools</dc:creator>
  <dc:description/>
  <dc:language>en-US</dc:language>
  <cp:lastModifiedBy>shoyer</cp:lastModifiedBy>
  <dcterms:modified xsi:type="dcterms:W3CDTF">2008-10-27T15:40:55Z</dcterms:modified>
  <cp:revision>16</cp:revision>
  <dc:subject/>
  <dc:title>The Beginnings of Our Global Age: Europe, Africa, and Asia</dc:title>
</cp:coreProperties>
</file>